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4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BEB-0E2F-4789-9536-943852FA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E85-4210-4EC8-927D-FB8504DE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AB0DD-6DF8-41C4-B3D5-39F8A967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86DF4-BBBD-4775-858B-71B5F7F3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F3398-A9FF-461D-AE20-D4B4BD0F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E1BB-1C4B-45D1-990F-D9D7CF11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83909-3C03-4592-A70E-4AC58749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FA73E-3FA0-404A-A8D9-7B00EB3D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0C67F-4B1A-4497-82DA-30DA8B70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86824-D523-4F6B-89BA-17FF1CB9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892EB-A1E9-4C3F-8A92-A87B956F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0B699-6A93-4325-BA84-155B9CB8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555-0758-40D7-AAD5-47B3B2E6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568EC-E8F0-405A-A3C4-590BE992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81F37-F863-496D-A3B8-210CB42B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A6362-21DC-4F7E-A007-1C718223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8BB60-C39B-4EFF-A43F-359C5D31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7CA22-930D-4140-A272-06F42D8C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4B2A4-6AA4-4DFB-99E3-B8138F2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50A55-8E2F-412E-81EC-3C374270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78860-C495-4F00-9C89-6AAD1EC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86AB5-9673-47C0-904F-436BA38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70BC9-D71A-496A-B9AC-EA236EE5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A69-EE08-46D0-A4C2-50A0664D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B04C0-7018-41F3-ACCD-E07A7D2A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0CC1C-6927-48C3-95D4-43F98DF9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6073B-5999-4B3E-9C59-7A102A57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94023-69EC-4F33-B8A6-F4D7876D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C7555-9041-46CB-B9B7-9B880D78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1B1C1-44CE-4312-9D96-42A23AD7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863B2-2157-4572-B0A5-0FE93C0F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00492-1078-437A-8FA0-DD21FD2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9B5D6-C479-4043-8608-208A9F1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8FE3A-F7EA-41F4-AF04-043ADDE2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BD15-7B4B-4862-A1C1-ADD068FD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EF23D-97E3-4B9B-B39D-D798449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90727-BFFA-4931-991C-9F24F77D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2AC7C-FBCC-4096-8FFE-681766C8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1EF40-D834-4FC6-85DD-09CCE3F8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A15C7-0AA2-4C3D-A001-7032C509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7CED9-DBD1-4CF4-99BE-28D26300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9AB07-55E9-464A-8EB6-FCA6875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49D13-B331-4FE4-8CDA-47FD8888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29B4F-54F6-4C27-8958-4E9F6D0B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80E8D-07A1-45BF-BC10-CEC1B96C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4634-2F60-4A8A-8F94-5642110E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B9A93-FA98-4DBF-8B8B-2F4C570D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641D8-39AE-49EC-BD9C-8CB39A17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A963E-5715-4877-B1E0-64B1DC4E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F2F52-E09A-4CD7-A48E-D20A8F7F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5C1AD-0B7D-4A56-A001-DC41A1E2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24F59-6DC4-4D82-B8EB-357BA757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1DED0-11E6-453E-B7CD-DC58ECE2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82779-F0AA-4E06-A4C0-8CFF2A9C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DC393-7D3E-4650-86CC-DECEEE3C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3DC4A-3922-4650-A3DA-65499BC5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14C5-0BFA-42A6-87A2-CA3CE48E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A4DAA-892F-448A-870D-9E82580F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5A866-1BFB-4D71-988E-BA7BA73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E2144-E4AD-492F-A1F7-E324AE2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A9A1E-AA1A-4D97-B902-B343448F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C5CF5-649E-4170-8470-3F9602FB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8C2E4-9F2C-4AD4-A3D4-2F86923F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51156-0DE3-4141-A444-FA164572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309F-156C-4AE6-AED8-20F1A0A5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EAAB-7214-4179-AC35-31DAAFA7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128D-678E-4769-8E99-365247BA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A684-B388-4CEC-869C-62DDC9A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A94-5BA3-4BEF-8BFF-CCA72654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4386-0ADE-4566-8A58-B02531F3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179E-D964-416F-88FB-121DF5E0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41AF-87DE-4033-AE91-4487D1AE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D3C2-092A-4DA1-A1A6-16C8F325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CEBE-8262-4BFC-AAB1-B3DCD1E9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1675-9788-4BBE-8BB3-15CAC4B3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CC84-0D40-4B90-A51C-F77E5275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4ADB-E6B2-4F41-A8E6-591A7C49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987F9-63A3-4FFB-8D63-4184F41A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8C4E-749E-45F4-94BD-1BFEF65B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3A7-95ED-4EAE-92E8-1EB9712C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58AF-A41C-4B62-8568-4FF02D55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0919A-CE08-45DB-ABA3-D3B5BA2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D9FB-B63A-4DE1-96C2-9F5426FC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D811-238E-4954-8947-3C4A9938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A3408-DEDF-40F6-A43F-761197F7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D472-0ED3-4C69-86AB-CCD5CC84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B30B-A6DD-4703-9D61-C7B0A306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4668-85C9-4700-B68B-89C02508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C343C-583A-400B-BA2D-C6806082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94E52-6FD6-4492-813B-763D2E8C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FE2-E78F-4F00-B930-64391A99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06A2F-0FE8-4BFF-B2FC-5FB1FE86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590B-C4F3-4F1B-856D-68C69635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D0B57-8D2E-4393-9D8D-0E0C5E72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1049E-DDF6-47B1-9EF3-EB9DB55F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0294-C1D9-404F-BB21-F338A04A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3169-DBE6-4B41-B353-9A0D95E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B6D7-650D-4BE1-860D-B1C8D249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CC65-38E9-4805-9A7F-846E908C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1605-7B1F-4A11-84DB-D526DCD7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E43ED-3A34-4448-8800-F3AD8DD4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946-FBBF-415A-896F-9868444A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A5B8A-50B1-481D-BC28-43CD62C1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4DAA9-DFCC-49E1-8D9D-59E86325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B82D6-4B54-4B17-878D-D2976053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FA285-7CA4-41EC-9FB7-5629CA67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F0C7-FA7B-4306-8C84-0030A2E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812DE-9A05-4671-BBEE-D4F204E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E799-1890-4E69-BC1D-1BDFF1DB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F92A-C0E6-4A46-8AEF-A28BAAD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69340-330F-46FF-A493-7430F89C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4574E-2151-4A3B-81C3-AEC64EDD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677-FA74-46E5-8232-E5B6E433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DCDF8-4E0A-468A-9951-3E86D2A8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33640-5BDE-4E26-8807-EB7F070B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4E19C-0B1A-41CB-BDDE-D461A88E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F68EA-BE8E-4D10-B7BD-C1A0D7D8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D26AB-D10C-40D8-8290-81360C10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FFD03-D4E3-44C9-99FB-D44AB950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F2396-3925-495E-92AB-2CD9CA93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2E3A-377F-405D-AA86-DF5197AF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FDA1D-D4FC-4652-9DE8-30162549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0ADB2-C482-4C74-94AA-96A337A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B7D-CA64-4141-AD67-A492B86F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88986-F051-4901-83D6-3AACE50A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27A78-5BB4-412D-AE8F-60A75FE3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C06C0-AF56-410E-A186-F0560F9E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E8466-43A8-4CE2-81F3-E1A5CF54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8C37-72CF-4C0E-8D07-E52666D3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3E792-1892-4701-B7D5-9C5B5C65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10F53-7DC4-4C45-B667-C9DA055A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5C3D1-6B35-49CE-8F7E-15AA9AAB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D8D9D-5F68-4FEC-AA7C-E8156A7E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85E51-B060-4E64-B7AD-B68414B6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663-B15D-4329-BBE5-FED4A46F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AB27A-090B-4033-B873-CAA62541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08B64-767C-4FA0-8E3C-EDF8B0B3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2A75E-424E-4698-BB8C-B939C3B0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A9D9B-8A82-4C8E-8ED1-C6032155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0BBFD-187E-434B-9C4A-8DBDECC7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0F4BF-195C-4DCC-8055-35CE6938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07E3D-8957-4A6B-86D1-3B780C9A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00AA-ACBE-4016-AB00-4BFAD8A9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2F34-A491-4F88-B3AE-79BF11CF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13026-FC4A-443D-BCD0-3FA9900B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182-B842-4E15-9E1E-E45CAA9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ABA4B-07C4-4654-9AFD-7A98E7AF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8EDBB-4A5C-42F5-85C9-FA7D67D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71D50-D1A8-41C5-9536-952ACE51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06464-E179-4026-B553-3C6BA555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0381A-2FA6-45DE-A1D0-EFBCA0FE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92BC6-A414-453E-BA5C-5D401CF5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CF603-EB2E-4C61-9D32-E36538AF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125CB-43B0-4A25-93EC-C850A37D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06B55-3380-4A47-9280-126E511F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F833E-AEEA-4B3F-B00D-4FF059A8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8647-4D85-4349-A12A-8B18FAEA5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55C9-2EEF-4069-B1A7-8D42E8628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5AD2-9531-4422-99D5-5A0B66302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5585-DDFC-40AC-9E6D-F4022AC42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2EAD-2FA3-4A71-8D06-BA6697D4C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AAF1-FCC5-4C95-9739-26B72697C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04AC-622A-4096-A3CB-7EEE26167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6AFE-7E24-4784-A9B3-A46120118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6AA6-69F2-44B5-97CD-6C6881E23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DBAD-5901-44FA-99F3-29B366D1F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0CA1-7DAE-427B-A554-2511D0A0E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2AEA-9CBC-481B-852E-BE17D8D83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3D27-3B12-4465-9600-6C8EAE60D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istoryguide.org/intellect/robespierre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historyguide.org/intellect/nap_res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yguide.org/intellect/declaration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2330280" y="333360"/>
            <a:ext cx="48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The Radical Stage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French Rev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1792—179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838080" y="26668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eclaration of Pilnitz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Girond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ational ‘Convention’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Monarch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evee en masse”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Jacobins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reason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Committee of Public Safe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uillotine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aximilien de Robespier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adicalization of the Rev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eptember 1792, the Convention declares France a Repub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December, King Louis XVI was placed on trial for “violating the liberties of his subjects” as written in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the Constit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s is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treas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 is sentenced to death by beh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Guillot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Used to behead those convicted of trea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40 000 people were put to death this way by the end of 179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Often 60 people a day were guillotined in front of large crow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Beheading was considered the most humane method of exec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But was it real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7" descr="thermidor.jpg (8858 bytes)"/>
          <p:cNvPicPr/>
          <p:nvPr/>
        </p:nvPicPr>
        <p:blipFill>
          <a:blip r:embed="rId1"/>
          <a:stretch/>
        </p:blipFill>
        <p:spPr>
          <a:xfrm>
            <a:off x="5334120" y="2057400"/>
            <a:ext cx="30477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jan21_1793.jpg (16375 bytes)"/>
          <p:cNvPicPr/>
          <p:nvPr/>
        </p:nvPicPr>
        <p:blipFill>
          <a:blip r:embed="rId1"/>
          <a:stretch/>
        </p:blipFill>
        <p:spPr>
          <a:xfrm>
            <a:off x="609480" y="1219320"/>
            <a:ext cx="7925040" cy="53038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Execution of King Louis XVI</a:t>
            </a:r>
            <a:br>
              <a:rPr sz="2800"/>
            </a:b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(January 21, 1793, 10:22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ld 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Guillotine-a"/>
          <p:cNvPicPr/>
          <p:nvPr/>
        </p:nvPicPr>
        <p:blipFill>
          <a:blip r:embed="rId1"/>
          <a:stretch/>
        </p:blipFill>
        <p:spPr>
          <a:xfrm>
            <a:off x="2133720" y="1828800"/>
            <a:ext cx="439236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" descr="1872-2003"/>
          <p:cNvPicPr/>
          <p:nvPr/>
        </p:nvPicPr>
        <p:blipFill>
          <a:blip r:embed="rId1"/>
          <a:stretch/>
        </p:blipFill>
        <p:spPr>
          <a:xfrm>
            <a:off x="2971800" y="304920"/>
            <a:ext cx="30510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guillotine"/>
          <p:cNvPicPr/>
          <p:nvPr/>
        </p:nvPicPr>
        <p:blipFill>
          <a:blip r:embed="rId1"/>
          <a:stretch/>
        </p:blipFill>
        <p:spPr>
          <a:xfrm>
            <a:off x="1371600" y="0"/>
            <a:ext cx="64882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1857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3" descr="Guillotine"/>
          <p:cNvPicPr/>
          <p:nvPr/>
        </p:nvPicPr>
        <p:blipFill>
          <a:blip r:embed="rId1"/>
          <a:stretch/>
        </p:blipFill>
        <p:spPr>
          <a:xfrm>
            <a:off x="2109960" y="142920"/>
            <a:ext cx="49258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Reign of T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e King’s execution immediately sparks war in Eu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n April, 1793, the </a:t>
            </a:r>
            <a:r>
              <a:rPr b="1" i="1" lang="en-US" sz="2400" spc="-1" strike="noStrike">
                <a:solidFill>
                  <a:srgbClr val="66ffff"/>
                </a:solidFill>
                <a:latin typeface="Comic Sans MS"/>
              </a:rPr>
              <a:t>Jacobins, </a:t>
            </a: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the largest party in the National Convention, set up a </a:t>
            </a:r>
            <a:r>
              <a:rPr b="0" i="1" lang="en-US" sz="2400" spc="-1" strike="noStrike">
                <a:solidFill>
                  <a:srgbClr val="66ffff"/>
                </a:solidFill>
                <a:latin typeface="Comic Sans MS"/>
              </a:rPr>
              <a:t>Committee of Public Safety</a:t>
            </a: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 to protect France from Eur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Comic Sans MS"/>
              </a:rPr>
              <a:t>Its lead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Comic Sans MS"/>
              </a:rPr>
              <a:t>Maximilien de Robesp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375000" y="23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7" name="Picture 6" descr="Robespierre biograp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809880"/>
            <a:ext cx="20970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omic Sans MS"/>
              </a:rPr>
              <a:t>Maximilien de Robespier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September, Robespierre granted emergency power to The Committee to “detain those suspected as enemies (spies) of the Republic.”  By the end of 1794, over 100 000 people were arr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ose BELIEVED guilty, wer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y summer 1794, Robespierre had so much power that he was feared now by the people who did the kill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 was executed by guillotine on July 27, 17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ccff"/>
                </a:solidFill>
                <a:latin typeface="Comic Sans MS"/>
              </a:rPr>
              <a:t>The Radical Stages of the French Revolution:  1792—1794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3" descr="{short description of image}"/>
          <p:cNvPicPr/>
          <p:nvPr/>
        </p:nvPicPr>
        <p:blipFill>
          <a:blip r:embed="rId1"/>
          <a:stretch/>
        </p:blipFill>
        <p:spPr>
          <a:xfrm>
            <a:off x="2438280" y="2286000"/>
            <a:ext cx="4572000" cy="26179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3528360" y="5184720"/>
            <a:ext cx="24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ccccff"/>
                </a:solidFill>
                <a:latin typeface="Comic Sans MS"/>
              </a:rPr>
              <a:t>Aspirations to Equality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4" descr="robespierre_excutioner"/>
          <p:cNvPicPr/>
          <p:nvPr/>
        </p:nvPicPr>
        <p:blipFill>
          <a:blip r:embed="rId1"/>
          <a:stretch/>
        </p:blipFill>
        <p:spPr>
          <a:xfrm>
            <a:off x="2286000" y="380880"/>
            <a:ext cx="36450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happens nex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2946240" y="19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4" name="Picture 5" descr="Click here for Napoelon Resour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371600"/>
            <a:ext cx="3549600" cy="42102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6"/>
          <p:cNvSpPr/>
          <p:nvPr/>
        </p:nvSpPr>
        <p:spPr>
          <a:xfrm>
            <a:off x="2893680" y="579132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apoleon Bonapa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The Political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5562720" y="2590920"/>
            <a:ext cx="2895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Line 11"/>
          <p:cNvSpPr/>
          <p:nvPr/>
        </p:nvSpPr>
        <p:spPr>
          <a:xfrm>
            <a:off x="762120" y="2590920"/>
            <a:ext cx="289548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311040" y="29718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lib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3961440" y="304812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Status qu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7086600" y="304812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conserv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850800" y="3657600"/>
            <a:ext cx="17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keep thing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s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412200" y="36576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ek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ore chan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5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Full text of the &quot;Declaration of the Rights of Man and the Citizen&quo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457200"/>
            <a:ext cx="4325760" cy="54864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 . . . Every citizen has the right to seize conspirators and counter-revolutionaries and to arraign them before magistrates. He is required to denounce them when he knows of them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83860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october_days.jpg (7459 bytes)"/>
          <p:cNvPicPr/>
          <p:nvPr/>
        </p:nvPicPr>
        <p:blipFill>
          <a:blip r:embed="rId1"/>
          <a:stretch/>
        </p:blipFill>
        <p:spPr>
          <a:xfrm>
            <a:off x="2895480" y="2362320"/>
            <a:ext cx="3276720" cy="20588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s Majesty the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eror [of Austria]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nd His Majesty the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King of Prussi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…declare that the situation in which His Majesty the King of France is in is an object of common interest to all the sovereigns of Europe.  [We are therefore] resolved to act promptly in a mutual agreement with the necessary forces in order to obtain the proposed and common goal.”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2019600" y="4572000"/>
            <a:ext cx="5075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Declaration of Pilnitz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, August, 179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(An attempt by Austria and Prussia to cur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the French threat to the stability of Europe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National ‘Assembly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The “Assembly” changes its name to the “Conventio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n 1791, the National Convention has its first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It is comprised of three groups of peo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Comic Sans MS"/>
              </a:rPr>
              <a:t>The Feuillants, the Girondins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nd </a:t>
            </a:r>
            <a:r>
              <a:rPr b="1" i="1" lang="en-US" sz="2400" spc="-1" strike="noStrike">
                <a:solidFill>
                  <a:srgbClr val="ffff66"/>
                </a:solidFill>
                <a:latin typeface="Comic Sans MS"/>
              </a:rPr>
              <a:t>the Jacobin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Comic Sans MS"/>
              </a:rPr>
              <a:t>The Political Spectrum (…again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"/>
          <p:cNvSpPr/>
          <p:nvPr/>
        </p:nvSpPr>
        <p:spPr>
          <a:xfrm>
            <a:off x="5562720" y="2133720"/>
            <a:ext cx="28954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4"/>
          <p:cNvSpPr/>
          <p:nvPr/>
        </p:nvSpPr>
        <p:spPr>
          <a:xfrm>
            <a:off x="838080" y="2133720"/>
            <a:ext cx="2895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615600" y="259092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lib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3942000" y="25909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mode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6781680" y="259092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conserv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6850800" y="3352680"/>
            <a:ext cx="17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keep thing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e s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3833640" y="3352680"/>
            <a:ext cx="18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will ac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ome chan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488520" y="327672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ek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ore chan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6750360" y="441972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Feuill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3763080" y="434340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Girond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545400" y="4267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Jacob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National ‘Convention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peasan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, however, were demanding equal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Levee en mass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show their seriousness, they attacked the King’s palace, killing hundre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7" descr="aug10_1792.jpg (13416 bytes)"/>
          <p:cNvPicPr/>
          <p:nvPr/>
        </p:nvPicPr>
        <p:blipFill>
          <a:blip r:embed="rId1"/>
          <a:stretch/>
        </p:blipFill>
        <p:spPr>
          <a:xfrm>
            <a:off x="4343400" y="1595520"/>
            <a:ext cx="449568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adicalization of the Rev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April, 1792, because of this assault, the National Convention declare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n all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opposed to the Revolution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monarchi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August, the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Feuillant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re forced out of the Convention.  It is now a two party Convention (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Girondin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Jacobin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47:56Z</dcterms:created>
  <dc:creator>Leo Hayes High School</dc:creator>
  <dc:description/>
  <dc:language>en-US</dc:language>
  <cp:lastModifiedBy>ED18</cp:lastModifiedBy>
  <dcterms:modified xsi:type="dcterms:W3CDTF">2011-09-30T17:12:24Z</dcterms:modified>
  <cp:revision>23</cp:revision>
  <dc:subject/>
  <dc:title>The Radical Stages of the French Revolution:  1792—1794</dc:title>
</cp:coreProperties>
</file>